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DAD5-4D7D-48CA-AA8E-C64BB57AE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1289-3619-4C9E-B038-2BB8DAC8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8A92-44DC-43E8-84C9-16D9D30F1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7C55-0F60-44A5-81AA-2D32623DF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FF47-A2B3-4A31-8B4D-F5F513C55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D787-9E65-428F-9525-6F7EE6D3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7A25-5C41-4423-8FC5-317CD0FE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E43E-6FF9-47A1-B9F6-905A468A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AE15-5EAB-4689-9A59-6DF5A677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CD07-15A3-47EF-9BD5-596499D5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243C-EBC4-4CEC-94B9-AB41285D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93F6-6F15-47A2-B379-C38D6A81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7A82-693A-4CAF-B169-1F217E9F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1BABD-06AA-4D68-8241-24052165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39AD-B83E-4D44-9F86-1EA7B289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421F-C786-413B-A858-23B6E9492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8A2C-2B61-4D32-B97A-FBB51122E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8791-134B-4BCB-991F-1C787FA5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4A31-AAD7-45A5-B42B-212A1C85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83DD-1806-4CC5-9FD8-51CAFA62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AA63-70C9-43C7-B9FD-D4114FFB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42CD-B62C-4A6C-ABF3-ED994D56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69E0-1E1C-4346-8DB7-3379A7AE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2037-8B47-4DB8-930F-4DEEFCA7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205E-00B4-4B10-863B-375876864B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8565-E7E4-4EC7-AFB3-C2C02955ED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WORKSHOP ON COMMUNITY- BASED IRRIGATION MANAGEMENT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T ILRI, ADDIS ABEB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14-15 May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Paulos Dub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EA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Status of Irrigated Agriculture in each Regional Stat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914400" y="1981080"/>
          <a:ext cx="7162920" cy="44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81080"/>
                    <a:ext cx="71629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OBJECTIVE OF THIS PROJEC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sess the benefits, costs and impacts of different types of small-scale irrigation schemes and their water 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role of small-scale irrigation in poverty reduction, water economy and water uses in the commun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rengthening capacity building in the NA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 WISH YOU A PRODUCTIVE DELIBRATION a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ANK FOR LISTE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OIL ERO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il Erosion is the worst threat to Land Productivity in the Region compared to any other fact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Causative Factor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opulation pres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continuous cultiv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rugged topography &amp; steep sl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orrential rain concentrated within a short peri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dwindling vege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rosion vulnerable soil typ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IMPACT OF SOIL ERO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duction in soil dep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ow soil moisture reten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dimentation at the downstream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INVESTMENT ON SOIL CONSERV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the different domains farmers’ soil conservation practices may include stone bunding, soil bunding, making drainage ditches, clearing stone, tree planting, tree nursery management, fence building, and live fence establish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one bund is practiced in the cereal domains while soil bund is used LPC, HP &amp; HM doma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ee planting is practiced in the HPC, LP &amp; L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143000" y="1757520"/>
          <a:ext cx="7315200" cy="447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757520"/>
                    <a:ext cx="7315200" cy="44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CHALLENGES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THIOPIA FA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eeding the rapidly increasing population (c. 2,000,000 p.a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Youth Migration out of village to towns in search of jobs, farm lands or food as a result of low productivity of l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hrinking size of l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current drought expanding to areas previously not affected (to the wes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Water Resources in Ethiop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2 major river bas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potentials for irrigated agriculture is about 3.7 x 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hecta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nly 5% is u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bout a third of the irrigated agriculture is in Awash River bas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828800" y="1981080"/>
          <a:ext cx="5486400" cy="41148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981080"/>
                    <a:ext cx="5486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History of Irrigation in Ethiopia (1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There are more than 130 340 ha of traditional and 48 000 ha of modern type small-scale irrigation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61 000 medium and large-scale irrigated agricultur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There are also over 460 projects of small scale irrigation under construction or have started operation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istory of Irrigation (2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However, farmers face many problems in operating small scale irrigation plo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At present there are many micro-dams and small ponds being constructed by the farmer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Professionals in irrigation and drainage should give due attention to the proper construction and operation of these schem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ast recommendation in Irrigation from Werer Cent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2044800"/>
            <a:ext cx="80773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op water requirement for cotton, wheat, sesame, maize and groundnut has been studied and recommen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er requirement of some fruit trees and vegetables has also been studied and recommended although this requires further refin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owledge gap exists on water requirement for supplemental or off season crop production in the highlan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Traditional Small Scale Irrigation Innovation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Traditional small scale irrigation existed for some time but scaling up activities must have started since 1960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etbacks of the traditional irrigation practic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High labor requirement to build canal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Loss of some productive lands while building the structur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Gully formation as a result of deep can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lack of proper water regulation or control to each canal, hence, poor water distribution to the farm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Limited extension advice on water management, hence, poor impac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3T08:18:00Z</dcterms:created>
  <dc:creator>Paulosd</dc:creator>
  <dc:description/>
  <dc:language>en-US</dc:language>
  <cp:lastModifiedBy>SepaliG</cp:lastModifiedBy>
  <dcterms:modified xsi:type="dcterms:W3CDTF">2004-07-27T07:27:55Z</dcterms:modified>
  <cp:revision>12</cp:revision>
  <dc:subject/>
  <dc:title>COMMUNITY BASED IRRIGATION PRACTICES</dc:title>
</cp:coreProperties>
</file>