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embeddings/oleObject1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876D-A8EC-4FC0-BC08-524661851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0CC6-4AB1-4182-8D27-D3ED3D657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7B47-E992-46C0-A77C-770E0FF59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6D9C-7DC0-4409-9986-8345A61EA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298DF-9908-4DC0-BBB6-C3F198663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AB9BE-2225-45E9-BB25-E51230589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A8B44-B3AE-4581-8021-9656E16D5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CF546-400C-4646-BB53-303646275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93176-B40E-4994-AEF9-8E28B7AE4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0114F-A7AC-466A-A959-958670AE6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EE26F-655C-4A93-B5E1-A61995D5E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D2B7-A638-490B-B2CF-13DB228CE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3D550-7E50-4885-B63B-83A96B2D2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92C27-AE20-438F-AB51-97E68576F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43170-49D4-4D81-A79C-CE5FEC758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7CDA3-364D-4C08-8817-49F18E71A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6AEDE-F084-4E61-AA40-C565FAFAC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AB71-E13F-4F20-815D-B3E996A4A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0E7D-ADDA-4E22-9524-C888E1BBE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43D8-1669-4F0C-A1F1-5AE7A266C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785F-BF77-458C-98F9-0267C3ED8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332D-12A4-49C6-B4FB-2B2A39512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5695-BE60-4C04-9F55-7F3060BAB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6F6B-A466-4F83-A866-5C5B4EB40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14002-799C-42D6-BB34-1CC99E0057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1D0A6-6966-4336-BB7A-A06233027B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815328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Arial"/>
              </a:rPr>
              <a:t>WORKSHOP ON COMMUNITY- BASED IRRIGATION MANAGEMENT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AT ILRI, ADDIS ABEB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14-15 May 200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Paulos Duba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EAR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Arial"/>
              </a:rPr>
              <a:t>Status of Irrigated Agriculture in each Regional State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914400" y="1981080"/>
          <a:ext cx="7162920" cy="4419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81080"/>
                    <a:ext cx="716292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OBJECTIVE OF THIS PROJEC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ssess the benefits, costs and impacts of different types of small-scale irrigation schemes and their water sour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e role of small-scale irrigation in poverty reduction, water economy and water uses in the commun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trengthening capacity building in the NA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 WISH YOU A PRODUCTIVE DELIBRATION and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ANK FOR LISTEN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SOIL EROS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oil Erosion is the worst threat to Land Productivity in the Region compared to any other facto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Causative Factor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opulation press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continuous cultiv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rugged topography &amp; steep slo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Torrential rain concentrated within a short perio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dwindling veget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Erosion vulnerable soil typ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IMPACT OF SOIL EROS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Reduction in soil dept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low soil moisture reten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edimentation at the downstream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INVESTMENT ON SOIL CONSERVA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n the different domains farmers’ soil conservation practices may include stone bunding, soil bunding, making drainage ditches, clearing stone, tree planting, tree nursery management, fence building, and live fence establishm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tone bund is practiced in the cereal domains while soil bund is used LPC, HP &amp; HM domai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ree planting is practiced in the HPC, LP &amp; LM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1143000" y="1757520"/>
          <a:ext cx="7315200" cy="44766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757520"/>
                    <a:ext cx="7315200" cy="447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THE CHALLENGES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ETHIOPIA FAC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eeding the rapidly increasing population (c. 2,000,000 p.a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Youth Migration out of village to towns in search of jobs, farm lands or food as a result of low productivity of la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hrinking size of la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ecurrent drought expanding to areas previously not affected (to the wes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6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Water Resources in Ethiopi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2 major river basi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e potentials for irrigated agriculture is about 3.7 x 10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</a:rPr>
              <a:t>6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hectar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Only 5% is us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bout a third of the irrigated agriculture is in Awash River bas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828800" y="1981080"/>
          <a:ext cx="5486400" cy="41148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981080"/>
                    <a:ext cx="5486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History of Irrigation in Ethiopia (1)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440" y="20570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There are more than 130 340 ha of traditional and 48 000 ha of modern type small-scale irrigation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61 000 medium and large-scale irrigated agricultur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There are also over 460 projects of small scale irrigation under construction or have started operation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History of Irrigation (2)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However, farmers face many problems in operating small scale irrigation plot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At present there are many micro-dams and small ponds being constructed by the farmer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Professionals in irrigation and drainage should give due attention to the proper construction and operation of these scheme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Past recommendation in Irrigation from Werer Center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2044800"/>
            <a:ext cx="807732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op water requirement for cotton, wheat, sesame, maize and groundnut has been studied and recommen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ater requirement of some fruit trees and vegetables has also been studied and recommended although this requires further refin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nowledge gap exists on water requirement for supplemental or off season crop production in the highland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792468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Traditional Small Scale Irrigation Innovation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Traditional small scale irrigation existed for some time but scaling up activities must have started since 1960s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Setbacks of the traditional irrigation practic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High labor requirement to build canal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Loss of some productive lands while building the structur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Gully formation as a result of deep cana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lack of proper water regulation or control to each canal, hence, poor water distribution to the farm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Limited extension advice on water management, hence, poor impact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3T08:18:00Z</dcterms:created>
  <dc:creator>Paulosd</dc:creator>
  <dc:description/>
  <dc:language>en-US</dc:language>
  <cp:lastModifiedBy>SepaliG</cp:lastModifiedBy>
  <dcterms:modified xsi:type="dcterms:W3CDTF">2004-07-27T07:27:55Z</dcterms:modified>
  <cp:revision>12</cp:revision>
  <dc:subject/>
  <dc:title>COMMUNITY BASED IRRIGATION PRACTICES</dc:title>
</cp:coreProperties>
</file>