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1CE-A7A5-49CA-BAE7-97230030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384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BD8-2C90-4DA5-9BDC-CC28BAD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38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9160" y="4038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E50-DA29-4A7D-BAAD-9EEB723C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4560" y="13716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7000" y="13716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38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4560" y="4038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7000" y="4038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885-2CB7-42A3-A6AE-74137293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C4B-16CB-474A-9150-160A5D47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2A6-4550-4FF1-ABE8-1EB7FB5E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8F4-F987-4357-9350-FC157273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D2C-0BDE-46BB-99ED-3CB99A11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43E-CF52-46DA-817A-DDD81092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38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8B6-7681-4763-9D0C-8A2281A8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9160" y="4038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48B-16E9-47B0-A404-E4413CBA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9160" y="13716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384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F94-986D-4026-880C-5632DBCF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B3A9-8AD2-4427-BAA0-663A784764D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Assessment Process</a:t>
            </a:r>
            <a:br>
              <a:rPr sz="3600"/>
            </a:b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for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Comprehensive Assessment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of Water Management in Agricultur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“Ecosystem chapter”</a:t>
            </a:r>
            <a:br>
              <a:rPr sz="2400"/>
            </a:b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 </a:t>
            </a: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based on material suppli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abiba Gita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consultant to the Comprehensive Assessm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4267080"/>
            <a:ext cx="655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32764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86600" y="5334120"/>
            <a:ext cx="213372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2286000" y="5327640"/>
          <a:ext cx="2590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327640"/>
                    <a:ext cx="2590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876920" y="5334120"/>
            <a:ext cx="22096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0" y="380376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982800"/>
            <a:ext cx="2209680" cy="1379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2311560"/>
            <a:ext cx="220968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What is an assessment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An Assess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s a </a:t>
            </a: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ritical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objective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evaluation of information, for guiding decisions on a complex, public issue (or issues)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t is</a:t>
            </a: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 based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around policy-relevant or user/stakeholder quest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t is designed to inform a specific audience or ‘authorising environment’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(It does but it is not designed to introduce yet new jargon – please ask if you get confused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An assessmen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s not a medium for presenting new research findings …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Most data are already collected, peer-reviewed and in public domain, or in other assessments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Can be ‘gap-filling’, and contain new (re)runs of old models and syntheses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Focuses on identified policy questions/issu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Judgement on veracity and uncertainty of evidence, clearly labelled, is required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s not a personal advocacy pie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Represents a ‘balanced’ and evidence-based view from the writing team, with external review, and demonstrated response to the review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s not an opportunity to promote pet topics or own work, nor develop personal research agenda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t is a team effort and assessment of the evidenc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Characteristics of an Assessme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cess: open, transparent, reviewed, widely representative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echnically accurate, evidence-bas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Aims to</a:t>
            </a: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reduce complexity, but add value to existing inform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600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ummation, synthesis and sorting of what is known and widely accepted from what is not known or not agreed or uncertain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Conducted by a team of expert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600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broad range of disciplinary and geographical experience; different knowledge system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1600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ble to work together and have fun – team rapport is necessary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45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62120" y="380880"/>
          <a:ext cx="8381880" cy="6113520"/>
        </p:xfrm>
        <a:graphic>
          <a:graphicData uri="http://schemas.openxmlformats.org/drawingml/2006/table">
            <a:tbl>
              <a:tblPr/>
              <a:tblGrid>
                <a:gridCol w="2286000"/>
                <a:gridCol w="2465280"/>
                <a:gridCol w="3630600"/>
              </a:tblGrid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vi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ud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cienti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cision-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duc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ne or a f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arger and varied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ssues/top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mple and nar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oad and compl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dentifies gaps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search: driven by curio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nowledge for implementation: problem-dri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Un)certainty stat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ss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Jud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idden, more ob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quired and clearly fl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yn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ssential to reduce 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xhaustive, hist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ufficient to deal with main range of uncertain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Dealing with (un)certainty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Quantitative sca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Very certain (&gt;=97.5% probability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igh certainty (83-97.5%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edium certainty (67-83%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ow certainty (52.5-67%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Very uncertain (&lt;52.5%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Dealing with (un)certainty - qualitative scale</a:t>
            </a: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993300"/>
                </a:solidFill>
                <a:latin typeface="Trebuchet MS"/>
              </a:rPr>
              <a:t>Can be used in main text; must be used in Executive Summary / Summary for Decision-Ma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57640" y="47401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88000">
            <a:off x="2131560" y="1689840"/>
            <a:ext cx="1143000" cy="30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 of agreement or consen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14440" y="4900680"/>
            <a:ext cx="660096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unt of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observations, theory, model outputs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76680" y="1779480"/>
            <a:ext cx="24750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blished but in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48440" y="1779480"/>
            <a:ext cx="24750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76680" y="3170160"/>
            <a:ext cx="24750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in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48440" y="3170160"/>
            <a:ext cx="24750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ing Expla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Framework for the Assessment</a:t>
            </a:r>
            <a:br>
              <a:rPr sz="3200"/>
            </a:br>
            <a:r>
              <a:rPr b="1" lang="en-GB" sz="2000" spc="-1" strike="noStrike">
                <a:solidFill>
                  <a:srgbClr val="0066ff"/>
                </a:solidFill>
                <a:latin typeface="Trebuchet MS"/>
              </a:rPr>
              <a:t>Based on (much improved) the Millennium Ecosystem Assessm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ncentrates on issues or ques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Gives focus / keeps us on track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our important componen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evelopment Goals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ressures / Drivers of change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esource Base – agricultural systems / biodiversity landscape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Outcomes / Impacts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sider &amp; document (draft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key messages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covering strategies, interventions, investments &amp; agricultural practices (to support achievement of Goals), provide &amp; assess evidence and case studies 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43200" y="4191120"/>
            <a:ext cx="3733920" cy="251460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0"/>
            <a:ext cx="3581280" cy="228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verty and hunger re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tainable growt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d health and nutriti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2133720"/>
            <a:ext cx="3429000" cy="25905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 / Impacts (+/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, Fibr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ome,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 in resourc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utrients, degradation/enhance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981080"/>
            <a:ext cx="2590920" cy="281952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ures/Driv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pulation and 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nsumption patte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rb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limat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creasing 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5486400"/>
            <a:ext cx="289548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703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4920" y="5715000"/>
            <a:ext cx="27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shery, livestock, crop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ro-forestry/pla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9033200">
            <a:off x="1599840" y="1371240"/>
            <a:ext cx="1295280" cy="409680"/>
          </a:xfrm>
          <a:prstGeom prst="rightArrow">
            <a:avLst>
              <a:gd name="adj1" fmla="val 50000"/>
              <a:gd name="adj2" fmla="val 79042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329200">
            <a:off x="6324120" y="1219320"/>
            <a:ext cx="1295640" cy="409320"/>
          </a:xfrm>
          <a:prstGeom prst="rightArrow">
            <a:avLst>
              <a:gd name="adj1" fmla="val 50000"/>
              <a:gd name="adj2" fmla="val 79134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8145600">
            <a:off x="6324120" y="5181480"/>
            <a:ext cx="1295640" cy="409680"/>
          </a:xfrm>
          <a:prstGeom prst="rightArrow">
            <a:avLst>
              <a:gd name="adj1" fmla="val 50000"/>
              <a:gd name="adj2" fmla="val 79064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3335000">
            <a:off x="1523520" y="5028840"/>
            <a:ext cx="1295640" cy="409680"/>
          </a:xfrm>
          <a:prstGeom prst="rightArrow">
            <a:avLst>
              <a:gd name="adj1" fmla="val 50000"/>
              <a:gd name="adj2" fmla="val 79064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743200" cy="4572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5f5f5f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500800" y="5215320"/>
            <a:ext cx="393120" cy="51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8870000">
            <a:off x="1866960" y="5219640"/>
            <a:ext cx="838080" cy="152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4457520" y="3314520"/>
            <a:ext cx="838080" cy="15228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594400">
            <a:off x="6629400" y="5257440"/>
            <a:ext cx="838080" cy="15228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553080"/>
            <a:ext cx="457200" cy="7632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6400800"/>
            <a:ext cx="28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es, intervention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6248520"/>
            <a:ext cx="457200" cy="75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60199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/ Environmental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181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968720" y="5213520"/>
            <a:ext cx="403200" cy="437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ies on subsidies, trad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267080"/>
            <a:ext cx="3048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, Soil, Biod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4360" y="51814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nagement Inter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7:53:30Z</dcterms:created>
  <dc:creator>Habiba Gitay </dc:creator>
  <dc:description/>
  <dc:language>en-US</dc:language>
  <cp:lastModifiedBy> David Molden</cp:lastModifiedBy>
  <dcterms:modified xsi:type="dcterms:W3CDTF">2005-07-26T10:29:10Z</dcterms:modified>
  <cp:revision>241</cp:revision>
  <dc:subject/>
  <dc:title>PowerPoint Presentation</dc:title>
</cp:coreProperties>
</file>