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4BB-91AC-4C33-BDE7-8FA94680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38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417-2DD1-48B8-B724-D167CC0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916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BB4-8D8C-46F1-A5D3-53C857B9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456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700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456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700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B49-2350-4C30-B0E3-1C3DFFE6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3DE-71DF-4C56-A148-B545E954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2FD-B898-4226-BE82-590EDCB4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BD1-E6D2-44B9-AAA2-A1FC21B8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882-F28D-433E-9A92-9FF6C5D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6CD-6008-47BE-A94D-7F4C376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0E1-5052-490F-91C3-1CCAD46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916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CDC-9186-4384-9423-7C4EE93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C21-6389-4EC6-91FE-4455DF0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096B-A618-47B1-B773-66DE4157514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ssessment Process</a:t>
            </a:r>
            <a:br>
              <a:rPr sz="36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for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Comprehensive Assessment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of Water Management in Agricultur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“Ecosystem chapter”</a:t>
            </a:r>
            <a:br>
              <a:rPr sz="2400"/>
            </a:b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based on material suppli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abiba Gita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consultant to the Comprehensive Assess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267080"/>
            <a:ext cx="655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327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86600" y="5334120"/>
            <a:ext cx="213372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2286000" y="5327640"/>
          <a:ext cx="2590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327640"/>
                    <a:ext cx="2590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876920" y="53341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0" y="38037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982800"/>
            <a:ext cx="2209680" cy="1379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2311560"/>
            <a:ext cx="22096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What is an assessment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An Assess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s a 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itical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objective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evaluation of information, for guiding decisions on a complex, public issue (or issues)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t is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 based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around policy-relevant or user/stakeholder ques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t is designed to inform a specific audience or ‘authorising environment’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(It does but it is not designed to introduce yet new jargon – please ask if you get confused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An assessmen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not a medium for presenting new research findings …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Most data are already collected, peer-reviewed and in public domain, or in other assessment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an be ‘gap-filling’, and contain new (re)runs of old models and synthese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cuses on identified policy questions/iss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Judgement on veracity and uncertainty of evidence, clearly labelled, is required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not a personal advocacy pie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Represents a ‘balanced’ and evidence-based view from the writing team, with external review, and demonstrated response to the review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s not an opportunity to promote pet topics or own work, nor develop personal research agenda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t is a team effort and assessment of the evidenc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Characteristics of an Assessm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cess: open, transparent, reviewed, widely representative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chnically accurate, evidence-bas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Aims to</a:t>
            </a: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reduce complexity, but add value to existing infor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ummation, synthesis and sorting of what is known and widely accepted from what is not known or not agreed or uncertain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Conducted by a team of exper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broad range of disciplinary and geographical experience; different knowledge system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ble to work together and have fun – team rapport is necessary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380880"/>
          <a:ext cx="8381880" cy="6113520"/>
        </p:xfrm>
        <a:graphic>
          <a:graphicData uri="http://schemas.openxmlformats.org/drawingml/2006/table">
            <a:tbl>
              <a:tblPr/>
              <a:tblGrid>
                <a:gridCol w="2286000"/>
                <a:gridCol w="2465280"/>
                <a:gridCol w="363060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vi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ient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cision-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duc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ne or a f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arger and varied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ssues/top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mple and n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oad and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dentifies gap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earch: driven by curio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nowledge for implementation: problem-dri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Un)certainty stat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s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ud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idden, more 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quired and clearly fl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sential to reduce 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haustive, hist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ufficient to deal with main range of uncertain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Dealing with (un)certainty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Quantitative sca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Very certain (&gt;=97.5% probability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igh certainty (83-97.5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dium certainty (67-83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ow certainty (52.5-67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Very uncertain (&lt;52.5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Dealing with (un)certainty - qualitative scale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993300"/>
                </a:solidFill>
                <a:latin typeface="Trebuchet MS"/>
              </a:rPr>
              <a:t>Can be used in main text; must be used in Executive Summary / Summary for Decision-Ma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7640" y="47401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88000">
            <a:off x="2131560" y="1689840"/>
            <a:ext cx="1143000" cy="30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 of agreement or cons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14440" y="4900680"/>
            <a:ext cx="660096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unt of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bservations, theory, model outputs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76680" y="177948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ished but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48440" y="177948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76680" y="317016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48440" y="317016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ng Expla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Framework for the Assessment</a:t>
            </a:r>
            <a:br>
              <a:rPr sz="3200"/>
            </a:br>
            <a:r>
              <a:rPr b="1" lang="en-GB" sz="2000" spc="-1" strike="noStrike">
                <a:solidFill>
                  <a:srgbClr val="0066ff"/>
                </a:solidFill>
                <a:latin typeface="Trebuchet MS"/>
              </a:rPr>
              <a:t>Based on (much improved) the Millennium Ecosystem Assess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centrates on issues or ques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ives focus / keeps us on track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our important componen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evelopment Goal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essures / Drivers of change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esource Base – agricultural systems / biodiversity landscape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utcomes / Impact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sider &amp; document (draft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key messages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covering strategies, interventions, investments &amp; agricultural practices (to support achievement of Goals), provide &amp; assess evidence and case studies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3200" y="4191120"/>
            <a:ext cx="3733920" cy="251460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0"/>
            <a:ext cx="3581280" cy="228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verty and hunger re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tainable growt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health and nutr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2133720"/>
            <a:ext cx="3429000" cy="25905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 / Impacts (+/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, Fibr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,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 in resourc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utrients, degradation/enhanc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2590920" cy="281952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s/Driv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pulation and 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sumption patte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lim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creasing 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486400"/>
            <a:ext cx="289548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703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4920" y="57150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shery, livestock, crop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o-forestry/pla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033200">
            <a:off x="1599840" y="1371240"/>
            <a:ext cx="1295280" cy="409680"/>
          </a:xfrm>
          <a:prstGeom prst="rightArrow">
            <a:avLst>
              <a:gd name="adj1" fmla="val 50000"/>
              <a:gd name="adj2" fmla="val 79042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329200">
            <a:off x="6324120" y="1219320"/>
            <a:ext cx="1295640" cy="409320"/>
          </a:xfrm>
          <a:prstGeom prst="rightArrow">
            <a:avLst>
              <a:gd name="adj1" fmla="val 50000"/>
              <a:gd name="adj2" fmla="val 7913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145600">
            <a:off x="6324120" y="5181480"/>
            <a:ext cx="1295640" cy="409680"/>
          </a:xfrm>
          <a:prstGeom prst="rightArrow">
            <a:avLst>
              <a:gd name="adj1" fmla="val 50000"/>
              <a:gd name="adj2" fmla="val 7906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3335000">
            <a:off x="1523520" y="5028840"/>
            <a:ext cx="1295640" cy="409680"/>
          </a:xfrm>
          <a:prstGeom prst="rightArrow">
            <a:avLst>
              <a:gd name="adj1" fmla="val 50000"/>
              <a:gd name="adj2" fmla="val 7906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743200" cy="4572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500800" y="5215320"/>
            <a:ext cx="393120" cy="51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8870000">
            <a:off x="1866960" y="5219640"/>
            <a:ext cx="838080" cy="152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457520" y="3314520"/>
            <a:ext cx="838080" cy="15228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594400">
            <a:off x="6629400" y="5257440"/>
            <a:ext cx="838080" cy="15228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553080"/>
            <a:ext cx="457200" cy="7632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6400800"/>
            <a:ext cx="28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es, intervention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6248520"/>
            <a:ext cx="457200" cy="75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60199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/ Environmental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181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68720" y="5213520"/>
            <a:ext cx="403200" cy="437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 on subsidies, tra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267080"/>
            <a:ext cx="3048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, Soil, 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4360" y="5181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agement Inter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53:30Z</dcterms:created>
  <dc:creator>Habiba Gitay </dc:creator>
  <dc:description/>
  <dc:language>en-US</dc:language>
  <cp:lastModifiedBy> David Molden</cp:lastModifiedBy>
  <dcterms:modified xsi:type="dcterms:W3CDTF">2005-07-26T10:29:10Z</dcterms:modified>
  <cp:revision>241</cp:revision>
  <dc:subject/>
  <dc:title>PowerPoint Presentation</dc:title>
</cp:coreProperties>
</file>