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540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5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5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5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5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5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5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5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540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901"/>
              </a:spcBef>
              <a:buClr>
                <a:srgbClr val="000066"/>
              </a:buClr>
              <a:buSzPct val="7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901"/>
              </a:spcBef>
              <a:buClr>
                <a:srgbClr val="000066"/>
              </a:buClr>
              <a:buSzPct val="7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901"/>
              </a:spcBef>
              <a:buClr>
                <a:srgbClr val="000066"/>
              </a:buClr>
              <a:buSzPct val="70000"/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SzPct val="70000"/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SzPct val="70000"/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iwmi.org/assessmen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41911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000" spc="-1" strike="noStrike">
                <a:solidFill>
                  <a:srgbClr val="000066"/>
                </a:solidFill>
                <a:latin typeface="Palatino Linotype"/>
              </a:rPr>
              <a:t>Process and Timeline</a:t>
            </a:r>
            <a:endParaRPr b="1" lang="en-US" sz="6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33520" y="99072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66"/>
                </a:solidFill>
                <a:latin typeface="Palatino Linotype"/>
              </a:rPr>
              <a:t>The </a:t>
            </a:r>
            <a:r>
              <a:rPr b="1" i="1" lang="en-US" sz="6000" spc="-1" strike="noStrike">
                <a:solidFill>
                  <a:srgbClr val="cc3300"/>
                </a:solidFill>
                <a:latin typeface="Palatino Linotype"/>
              </a:rPr>
              <a:t>Comprehensive Assessment</a:t>
            </a:r>
            <a:r>
              <a:rPr b="1" i="1" lang="en-US" sz="6000" spc="-1" strike="noStrike">
                <a:solidFill>
                  <a:srgbClr val="000066"/>
                </a:solidFill>
                <a:latin typeface="Palatino Linotype"/>
              </a:rPr>
              <a:t> of Water Management in Agri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alatino Linotype"/>
              </a:rPr>
              <a:t>Chapter Timeline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Jan-now: 2005: work plans finalized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March-June : Detailed outlines developed by on-line consultations and face-to-face meeting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July: first draft of chapters developed by lead author team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August: scientific review and feedback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September (week of 26</a:t>
            </a:r>
            <a:r>
              <a:rPr b="1" lang="en-US" sz="3200" spc="-1" strike="noStrike" baseline="30000">
                <a:solidFill>
                  <a:srgbClr val="000066"/>
                </a:solidFill>
                <a:latin typeface="Century Gothic"/>
              </a:rPr>
              <a:t>th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): synthesis workshop-integration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Oct to Nov - stakeholder consultation and 2nd draft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Nov to Dec - Second review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Timeline - 2006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Jan to mid Feb - Final draft of chapters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Mid Feb to mid March – 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Final draft of scenarios and overview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Presentation at 3</a:t>
            </a:r>
            <a:r>
              <a:rPr b="1" lang="en-US" sz="2600" spc="-1" strike="noStrike" baseline="30000">
                <a:solidFill>
                  <a:srgbClr val="000066"/>
                </a:solidFill>
                <a:latin typeface="Century Gothic"/>
              </a:rPr>
              <a:t>rd</a:t>
            </a: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 World Water Forum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Mid March to May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Final revisions based on final reviews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Approval by co-sponsors, SC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May to July 2006 – substantive and scientific editing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Aug – Sep – publishing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August – delivery of overview document in Stockholm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October – delivery of Assessment</a:t>
            </a: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Secretariat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Facilitates process – 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Helps set up meetings, on-line discussions,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Maintains website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Communicates about the assessment to rest of world – issue/policy briefs, press release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Coordinates publication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15360" indent="-31536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Fund raising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Palatino Linotype"/>
              </a:rPr>
              <a:t>Steering Committe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Patrick Dugan, Worldfish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uhas Wani, ICRIS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Eiman Karar, DWAF, South Africa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Johan Rockstrom, SEI, Sweden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Gina Castillo, Novib-Oxfam, Netherlands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Jean-Marc Faures, FAO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Bas Bouman, IRRI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Mark Rosegrant, IFPRI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Theib Oweis, ICARDA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David Molden, IWMI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4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Palatino Linotype"/>
              </a:rPr>
              <a:t>Co-spon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86728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F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RAM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Palatino Linotype"/>
              </a:rPr>
              <a:t>Thank you</a:t>
            </a:r>
            <a:endParaRPr b="0" lang="en-US" sz="6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or further information visit: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www.iwmi.org/assessment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or write to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omp.assessment@cgiar.org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0" y="68580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Palatino Linotype"/>
              </a:rPr>
              <a:t>Content of the assessment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Introduction and Conceptual Framework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Part 1: </a:t>
            </a: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rends, conditions and response options –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on each question plus x-cut issue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Trends and condition 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50 years focusing on: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074240" indent="-2145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benefits, costs, and impacts 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Response Options</a:t>
            </a:r>
            <a:r>
              <a:rPr b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  <a:ea typeface="ＭＳ Ｐゴシック"/>
              </a:rPr>
              <a:t>Promising approaches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Part 2: </a:t>
            </a: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scenarios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 – plausible futures, analyzes impact of various decision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Part 3: </a:t>
            </a: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policy overview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Outline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Section 1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Introduction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Conceptual Framework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Impacts of WMA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Section 2 – 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Rainfed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Irrigated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Groundwater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ow Quality Water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Fisheries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ivestock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Ri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and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Basins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tion 3 –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Water Productiv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Ecosystems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Policies &amp; Institutions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Pover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tion 4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Scenarios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tion 5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Overview for Policy makers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Teams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hapter Team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– 3 to 4 lead authors for writing, contributing authors, network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ross-cutting issue team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– same composition with additional responsibilities of interacting across chapter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Scenario Team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– core team plus CLA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Review Panel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– independent, oversees review proces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Secretariat –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upports proces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Cross Cutting Issues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Ecosystems, Policies &amp; Institutions, Climate Change, Poverty, Gender, and Health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29040" indent="-32904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Gender, Health, Climate Change incorporated across chapter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29040" indent="-32904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Small teams for gender and health to: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lvl="1" marL="713160" indent="-274320">
              <a:spcBef>
                <a:spcPts val="7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Identify issues for chapter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lvl="1" marL="713160" indent="-274320">
              <a:spcBef>
                <a:spcPts val="799"/>
              </a:spcBef>
              <a:buClr>
                <a:srgbClr val="000066"/>
              </a:buClr>
              <a:buSzPct val="7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Provide content for chapters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Cross – cutting teams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Poverty, Ecosystems, Policies &amp; Institutions, Water Productivity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Synthesize material from chapter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Suggest material for chapter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One from each cross-cutting group should be involved in each chapter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Scenarios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Team = lead authors plus specialist team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hapters provide information to scenarios team 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Scenario team requests chapter team for information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By September, prepare first draft for review at Synthesis meeting</a:t>
            </a: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Palatino Linotype"/>
              </a:rPr>
              <a:t>Chapters respond to:</a:t>
            </a:r>
            <a:endParaRPr b="1" lang="en-US" sz="44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Issues brought up by co-sponsor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Cross cutting themes – poverty, gender, health, environment, institutions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entury Gothic"/>
              </a:rPr>
              <a:t>Scenario team </a:t>
            </a: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7:25:09Z</dcterms:created>
  <dc:creator>David Molden</dc:creator>
  <dc:description/>
  <dc:language>en-US</dc:language>
  <cp:lastModifiedBy> David Molden</cp:lastModifiedBy>
  <dcterms:modified xsi:type="dcterms:W3CDTF">2005-07-26T10:24:23Z</dcterms:modified>
  <cp:revision>101</cp:revision>
  <dc:subject/>
  <dc:title>Assuring Water for Food and Environmental Security</dc:title>
</cp:coreProperties>
</file>