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66FE-C851-4BDB-BD9D-E999D7462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463F-D507-4A25-80D4-B5F60A75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2966-93B7-4647-A207-3B7C4894C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9B0E-730C-4434-8C24-177169123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376C-4934-42AA-973B-F3BE2127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0278-EDC5-4E06-8948-CD5A5FF0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A4E1-A639-472A-B510-449128FB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C841-E6F5-4987-8CF8-DB18035B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C2EE-E2AE-4A05-B9AE-62E82988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C7E3-C490-4281-8A6B-1F6FE8B5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9667-8F61-401E-8734-551C40F0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6867-79EA-4B16-8E92-345BC714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9B77-E4C1-4BB6-A9DD-943F5F2AE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4840" y="1341360"/>
            <a:ext cx="96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96320" y="1143000"/>
            <a:ext cx="131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609480"/>
            <a:ext cx="457200" cy="762120"/>
          </a:xfrm>
          <a:prstGeom prst="flowChartCollat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1905120"/>
            <a:ext cx="457200" cy="838080"/>
          </a:xfrm>
          <a:prstGeom prst="flowChartCollat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35160" y="808200"/>
            <a:ext cx="10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06120" y="1905120"/>
            <a:ext cx="17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78920" y="1371600"/>
            <a:ext cx="135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k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91920" y="3855960"/>
            <a:ext cx="124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010280" y="0"/>
            <a:ext cx="1435320" cy="4724280"/>
          </a:xfrm>
          <a:custGeom>
            <a:avLst/>
            <a:gdLst/>
            <a:ahLst/>
            <a:rect l="l" t="t" r="r" b="b"/>
            <a:pathLst>
              <a:path w="904" h="2256">
                <a:moveTo>
                  <a:pt x="816" y="0"/>
                </a:moveTo>
                <a:cubicBezTo>
                  <a:pt x="828" y="104"/>
                  <a:pt x="840" y="208"/>
                  <a:pt x="768" y="288"/>
                </a:cubicBezTo>
                <a:cubicBezTo>
                  <a:pt x="696" y="368"/>
                  <a:pt x="504" y="384"/>
                  <a:pt x="384" y="480"/>
                </a:cubicBezTo>
                <a:cubicBezTo>
                  <a:pt x="264" y="576"/>
                  <a:pt x="96" y="712"/>
                  <a:pt x="48" y="864"/>
                </a:cubicBezTo>
                <a:cubicBezTo>
                  <a:pt x="0" y="1016"/>
                  <a:pt x="0" y="1248"/>
                  <a:pt x="96" y="1392"/>
                </a:cubicBezTo>
                <a:cubicBezTo>
                  <a:pt x="192" y="1536"/>
                  <a:pt x="496" y="1616"/>
                  <a:pt x="624" y="1728"/>
                </a:cubicBezTo>
                <a:cubicBezTo>
                  <a:pt x="752" y="1840"/>
                  <a:pt x="824" y="1976"/>
                  <a:pt x="864" y="2064"/>
                </a:cubicBezTo>
                <a:cubicBezTo>
                  <a:pt x="904" y="2152"/>
                  <a:pt x="864" y="2224"/>
                  <a:pt x="864" y="2256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3733920"/>
            <a:ext cx="167652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1219320"/>
            <a:ext cx="106704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1219320"/>
            <a:ext cx="1752480" cy="1447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0100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2819520"/>
            <a:ext cx="3263760" cy="1600200"/>
          </a:xfrm>
          <a:custGeom>
            <a:avLst/>
            <a:gdLst/>
            <a:ahLst/>
            <a:rect l="l" t="t" r="r" b="b"/>
            <a:pathLst>
              <a:path w="2056" h="1008">
                <a:moveTo>
                  <a:pt x="1968" y="0"/>
                </a:moveTo>
                <a:cubicBezTo>
                  <a:pt x="2012" y="204"/>
                  <a:pt x="2056" y="408"/>
                  <a:pt x="1728" y="576"/>
                </a:cubicBezTo>
                <a:cubicBezTo>
                  <a:pt x="1400" y="744"/>
                  <a:pt x="700" y="876"/>
                  <a:pt x="0" y="100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4280" y="2286000"/>
            <a:ext cx="2539800" cy="1981080"/>
          </a:xfrm>
          <a:custGeom>
            <a:avLst/>
            <a:gdLst/>
            <a:ahLst/>
            <a:rect l="l" t="t" r="r" b="b"/>
            <a:pathLst>
              <a:path w="1600" h="1248">
                <a:moveTo>
                  <a:pt x="1600" y="1248"/>
                </a:moveTo>
                <a:cubicBezTo>
                  <a:pt x="1056" y="1112"/>
                  <a:pt x="512" y="976"/>
                  <a:pt x="256" y="768"/>
                </a:cubicBezTo>
                <a:cubicBezTo>
                  <a:pt x="0" y="560"/>
                  <a:pt x="32" y="280"/>
                  <a:pt x="64" y="0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3733920"/>
            <a:ext cx="76320" cy="1440"/>
          </a:xfrm>
          <a:custGeom>
            <a:avLst/>
            <a:gdLst/>
            <a:ahLst/>
            <a:rect l="l" t="t" r="r" b="b"/>
            <a:pathLst>
              <a:path w="48" h="1">
                <a:moveTo>
                  <a:pt x="48" y="0"/>
                </a:moveTo>
                <a:cubicBezTo>
                  <a:pt x="28" y="0"/>
                  <a:pt x="8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962520" y="281952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676160" y="4495680"/>
            <a:ext cx="1523880" cy="22860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2514600"/>
            <a:ext cx="3263760" cy="1600200"/>
          </a:xfrm>
          <a:custGeom>
            <a:avLst/>
            <a:gdLst/>
            <a:ahLst/>
            <a:rect l="l" t="t" r="r" b="b"/>
            <a:pathLst>
              <a:path w="2056" h="1008">
                <a:moveTo>
                  <a:pt x="1968" y="0"/>
                </a:moveTo>
                <a:cubicBezTo>
                  <a:pt x="2012" y="204"/>
                  <a:pt x="2056" y="408"/>
                  <a:pt x="1728" y="576"/>
                </a:cubicBezTo>
                <a:cubicBezTo>
                  <a:pt x="1400" y="744"/>
                  <a:pt x="700" y="876"/>
                  <a:pt x="0" y="1008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4920" y="2666880"/>
            <a:ext cx="16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en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06040" y="324648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ti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68720" y="3276720"/>
            <a:ext cx="19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ens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3809880"/>
            <a:ext cx="3657600" cy="914400"/>
          </a:xfrm>
          <a:custGeom>
            <a:avLst/>
            <a:gdLst/>
            <a:ahLst/>
            <a:rect l="l" t="t" r="r" b="b"/>
            <a:pathLst>
              <a:path w="2304" h="576">
                <a:moveTo>
                  <a:pt x="0" y="576"/>
                </a:moveTo>
                <a:cubicBezTo>
                  <a:pt x="720" y="480"/>
                  <a:pt x="1440" y="384"/>
                  <a:pt x="1824" y="288"/>
                </a:cubicBezTo>
                <a:cubicBezTo>
                  <a:pt x="2208" y="192"/>
                  <a:pt x="2256" y="96"/>
                  <a:pt x="2304" y="0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788240" y="480060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5880" y="1219320"/>
            <a:ext cx="1295640" cy="237960"/>
          </a:xfrm>
          <a:prstGeom prst="rightArrow">
            <a:avLst>
              <a:gd name="adj1" fmla="val 50000"/>
              <a:gd name="adj2" fmla="val 13612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2362320"/>
            <a:ext cx="1295640" cy="237960"/>
          </a:xfrm>
          <a:prstGeom prst="rightArrow">
            <a:avLst>
              <a:gd name="adj1" fmla="val 50000"/>
              <a:gd name="adj2" fmla="val 13612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2209680"/>
            <a:ext cx="1295280" cy="238320"/>
          </a:xfrm>
          <a:prstGeom prst="rightArrow">
            <a:avLst>
              <a:gd name="adj1" fmla="val 50000"/>
              <a:gd name="adj2" fmla="val 1358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914400"/>
            <a:ext cx="1295640" cy="237960"/>
          </a:xfrm>
          <a:prstGeom prst="rightArrow">
            <a:avLst>
              <a:gd name="adj1" fmla="val 50000"/>
              <a:gd name="adj2" fmla="val 13612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114300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76212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1981080"/>
            <a:ext cx="16002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31240" y="5775480"/>
            <a:ext cx="5519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gure 1:  Responding to extern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Source:  slightly modified by Van Noordwijk et al., 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2T09:10:03Z</dcterms:created>
  <dc:creator>Brent Swallow</dc:creator>
  <dc:description/>
  <dc:language>en-US</dc:language>
  <cp:lastModifiedBy>Brent Swallow</cp:lastModifiedBy>
  <dcterms:modified xsi:type="dcterms:W3CDTF">2001-05-15T14:57:54Z</dcterms:modified>
  <cp:revision>5</cp:revision>
  <dc:subject/>
  <dc:title>PowerPoint Presentation</dc:title>
</cp:coreProperties>
</file>