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082-D992-4EB2-8866-405C63E0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E92-7667-41D2-AEFD-20145AD2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CD0-4EB7-45A2-BC2B-DF53442A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993-0B98-49FA-A4DC-D2974999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BDF-B257-4C4E-8C5E-5794CEB4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535-AB05-4A89-863E-2AD329E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FBA-2646-4340-AACB-FF675F14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30E-8D80-4ED1-94ED-0C234BA4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3D3-1E36-4062-8ACE-4155D9E3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D5D-506E-4D7C-978A-F86C8B5A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33B-A360-4BF6-8612-4B7DF8F2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1FE-669D-4AF4-84DE-4E3C010F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2210-D611-4B4B-BE3A-C7B006310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4840" y="1341360"/>
            <a:ext cx="9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96320" y="1143000"/>
            <a:ext cx="131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609480"/>
            <a:ext cx="457200" cy="76212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1905120"/>
            <a:ext cx="457200" cy="83808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35160" y="80820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6120" y="190512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78920" y="1371600"/>
            <a:ext cx="13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k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91920" y="3855960"/>
            <a:ext cx="12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0"/>
            <a:ext cx="1435320" cy="4724280"/>
          </a:xfrm>
          <a:custGeom>
            <a:avLst/>
            <a:gdLst/>
            <a:ahLst/>
            <a:rect l="l" t="t" r="r" b="b"/>
            <a:pathLst>
              <a:path w="904" h="2256">
                <a:moveTo>
                  <a:pt x="816" y="0"/>
                </a:moveTo>
                <a:cubicBezTo>
                  <a:pt x="828" y="104"/>
                  <a:pt x="840" y="208"/>
                  <a:pt x="768" y="288"/>
                </a:cubicBezTo>
                <a:cubicBezTo>
                  <a:pt x="696" y="368"/>
                  <a:pt x="504" y="384"/>
                  <a:pt x="384" y="480"/>
                </a:cubicBezTo>
                <a:cubicBezTo>
                  <a:pt x="264" y="576"/>
                  <a:pt x="96" y="712"/>
                  <a:pt x="48" y="864"/>
                </a:cubicBezTo>
                <a:cubicBezTo>
                  <a:pt x="0" y="1016"/>
                  <a:pt x="0" y="1248"/>
                  <a:pt x="96" y="1392"/>
                </a:cubicBezTo>
                <a:cubicBezTo>
                  <a:pt x="192" y="1536"/>
                  <a:pt x="496" y="1616"/>
                  <a:pt x="624" y="1728"/>
                </a:cubicBezTo>
                <a:cubicBezTo>
                  <a:pt x="752" y="1840"/>
                  <a:pt x="824" y="1976"/>
                  <a:pt x="864" y="2064"/>
                </a:cubicBezTo>
                <a:cubicBezTo>
                  <a:pt x="904" y="2152"/>
                  <a:pt x="864" y="2224"/>
                  <a:pt x="864" y="2256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733920"/>
            <a:ext cx="16765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21932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1219320"/>
            <a:ext cx="1752480" cy="14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2819520"/>
            <a:ext cx="3263760" cy="1600200"/>
          </a:xfrm>
          <a:custGeom>
            <a:avLst/>
            <a:gdLst/>
            <a:ahLst/>
            <a:rect l="l" t="t" r="r" b="b"/>
            <a:pathLst>
              <a:path w="2056" h="1008">
                <a:moveTo>
                  <a:pt x="1968" y="0"/>
                </a:moveTo>
                <a:cubicBezTo>
                  <a:pt x="2012" y="204"/>
                  <a:pt x="2056" y="408"/>
                  <a:pt x="1728" y="576"/>
                </a:cubicBezTo>
                <a:cubicBezTo>
                  <a:pt x="1400" y="744"/>
                  <a:pt x="700" y="876"/>
                  <a:pt x="0" y="10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4280" y="2286000"/>
            <a:ext cx="2539800" cy="1981080"/>
          </a:xfrm>
          <a:custGeom>
            <a:avLst/>
            <a:gdLst/>
            <a:ahLst/>
            <a:rect l="l" t="t" r="r" b="b"/>
            <a:pathLst>
              <a:path w="1600" h="1248">
                <a:moveTo>
                  <a:pt x="1600" y="1248"/>
                </a:moveTo>
                <a:cubicBezTo>
                  <a:pt x="1056" y="1112"/>
                  <a:pt x="512" y="976"/>
                  <a:pt x="256" y="768"/>
                </a:cubicBezTo>
                <a:cubicBezTo>
                  <a:pt x="0" y="560"/>
                  <a:pt x="32" y="280"/>
                  <a:pt x="64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3733920"/>
            <a:ext cx="76320" cy="1440"/>
          </a:xfrm>
          <a:custGeom>
            <a:avLst/>
            <a:gdLst/>
            <a:ahLst/>
            <a:rect l="l" t="t" r="r" b="b"/>
            <a:pathLst>
              <a:path w="48" h="1">
                <a:moveTo>
                  <a:pt x="48" y="0"/>
                </a:moveTo>
                <a:cubicBezTo>
                  <a:pt x="28" y="0"/>
                  <a:pt x="8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962520" y="28195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160" y="4495680"/>
            <a:ext cx="1523880" cy="2286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2514600"/>
            <a:ext cx="3263760" cy="1600200"/>
          </a:xfrm>
          <a:custGeom>
            <a:avLst/>
            <a:gdLst/>
            <a:ahLst/>
            <a:rect l="l" t="t" r="r" b="b"/>
            <a:pathLst>
              <a:path w="2056" h="1008">
                <a:moveTo>
                  <a:pt x="1968" y="0"/>
                </a:moveTo>
                <a:cubicBezTo>
                  <a:pt x="2012" y="204"/>
                  <a:pt x="2056" y="408"/>
                  <a:pt x="1728" y="576"/>
                </a:cubicBezTo>
                <a:cubicBezTo>
                  <a:pt x="1400" y="744"/>
                  <a:pt x="700" y="876"/>
                  <a:pt x="0" y="1008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920" y="266688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06040" y="32464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ti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8720" y="327672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809880"/>
            <a:ext cx="3657600" cy="914400"/>
          </a:xfrm>
          <a:custGeom>
            <a:avLst/>
            <a:gdLst/>
            <a:ahLst/>
            <a:rect l="l" t="t" r="r" b="b"/>
            <a:pathLst>
              <a:path w="2304" h="576">
                <a:moveTo>
                  <a:pt x="0" y="576"/>
                </a:moveTo>
                <a:cubicBezTo>
                  <a:pt x="720" y="480"/>
                  <a:pt x="1440" y="384"/>
                  <a:pt x="1824" y="288"/>
                </a:cubicBezTo>
                <a:cubicBezTo>
                  <a:pt x="2208" y="192"/>
                  <a:pt x="2256" y="96"/>
                  <a:pt x="2304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88240" y="480060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1219320"/>
            <a:ext cx="1295640" cy="237960"/>
          </a:xfrm>
          <a:prstGeom prst="rightArrow">
            <a:avLst>
              <a:gd name="adj1" fmla="val 50000"/>
              <a:gd name="adj2" fmla="val 1361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362320"/>
            <a:ext cx="1295640" cy="237960"/>
          </a:xfrm>
          <a:prstGeom prst="rightArrow">
            <a:avLst>
              <a:gd name="adj1" fmla="val 50000"/>
              <a:gd name="adj2" fmla="val 1361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209680"/>
            <a:ext cx="1295280" cy="238320"/>
          </a:xfrm>
          <a:prstGeom prst="rightArrow">
            <a:avLst>
              <a:gd name="adj1" fmla="val 50000"/>
              <a:gd name="adj2" fmla="val 1358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914400"/>
            <a:ext cx="1295640" cy="237960"/>
          </a:xfrm>
          <a:prstGeom prst="rightArrow">
            <a:avLst>
              <a:gd name="adj1" fmla="val 50000"/>
              <a:gd name="adj2" fmla="val 1361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14300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7621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981080"/>
            <a:ext cx="16002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1240" y="5775480"/>
            <a:ext cx="5519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gure 1:  Responding to exter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ource:  slightly modified by Van Noordwijk et al.,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10:03Z</dcterms:created>
  <dc:creator>Brent Swallow</dc:creator>
  <dc:description/>
  <dc:language>en-US</dc:language>
  <cp:lastModifiedBy>Brent Swallow</cp:lastModifiedBy>
  <dcterms:modified xsi:type="dcterms:W3CDTF">2001-05-15T14:57:54Z</dcterms:modified>
  <cp:revision>5</cp:revision>
  <dc:subject/>
  <dc:title>PowerPoint Presentation</dc:title>
</cp:coreProperties>
</file>